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4.wmf" ContentType="image/x-wmf"/>
  <Override PartName="/ppt/media/image52.png" ContentType="image/png"/>
  <Override PartName="/ppt/media/image50.png" ContentType="image/png"/>
  <Override PartName="/ppt/media/image46.png" ContentType="image/png"/>
  <Override PartName="/ppt/media/image45.wmf" ContentType="image/x-wmf"/>
  <Override PartName="/ppt/media/image36.png" ContentType="image/png"/>
  <Override PartName="/ppt/media/image33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55.wmf" ContentType="image/x-wmf"/>
  <Override PartName="/ppt/media/image3.png" ContentType="image/png"/>
  <Override PartName="/ppt/media/image15.png" ContentType="image/png"/>
  <Override PartName="/ppt/media/image18.wmf" ContentType="image/x-wmf"/>
  <Override PartName="/ppt/media/image57.png" ContentType="image/png"/>
  <Override PartName="/ppt/media/image20.wmf" ContentType="image/x-wmf"/>
  <Override PartName="/ppt/media/image63.png" ContentType="image/png"/>
  <Override PartName="/ppt/media/image4.wmf" ContentType="image/x-wmf"/>
  <Override PartName="/ppt/media/image59.png" ContentType="image/png"/>
  <Override PartName="/ppt/media/image62.wmf" ContentType="image/x-wmf"/>
  <Override PartName="/ppt/media/image22.png" ContentType="image/png"/>
  <Override PartName="/ppt/media/image24.jpeg" ContentType="image/jpeg"/>
  <Override PartName="/ppt/media/image61.png" ContentType="image/png"/>
  <Override PartName="/ppt/media/image25.wmf" ContentType="image/x-wmf"/>
  <Override PartName="/ppt/media/image64.png" ContentType="image/png"/>
  <Override PartName="/ppt/media/image27.png" ContentType="image/png"/>
  <Override PartName="/ppt/media/image30.wmf" ContentType="image/x-wmf"/>
  <Override PartName="/ppt/media/image26.wmf" ContentType="image/x-wmf"/>
  <Override PartName="/ppt/media/image28.wmf" ContentType="image/x-wmf"/>
  <Override PartName="/ppt/media/image23.wmf" ContentType="image/x-wmf"/>
  <Override PartName="/ppt/media/image51.jpeg" ContentType="image/jpeg"/>
  <Override PartName="/ppt/media/image58.png" ContentType="image/png"/>
  <Override PartName="/ppt/media/image60.png" ContentType="image/png"/>
  <Override PartName="/ppt/media/image2.png" ContentType="image/png"/>
  <Override PartName="/ppt/media/image56.jpeg" ContentType="image/jpeg"/>
  <Override PartName="/ppt/media/image10.wmf" ContentType="image/x-wmf"/>
  <Override PartName="/ppt/media/image29.wmf" ContentType="image/x-wmf"/>
  <Override PartName="/ppt/media/image11.png" ContentType="image/png"/>
  <Override PartName="/ppt/media/image48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37.png" ContentType="image/png"/>
  <Override PartName="/ppt/media/image6.png" ContentType="image/png"/>
  <Override PartName="/ppt/media/image40.wmf" ContentType="image/x-wmf"/>
  <Override PartName="/ppt/media/image12.png" ContentType="image/png"/>
  <Override PartName="/ppt/media/image49.png" ContentType="image/png"/>
  <Override PartName="/ppt/media/image14.jpeg" ContentType="image/jpeg"/>
  <Override PartName="/ppt/media/image8.png" ContentType="image/png"/>
  <Override PartName="/ppt/media/image38.png" ContentType="image/png"/>
  <Override PartName="/ppt/media/image19.png" ContentType="image/png"/>
  <Override PartName="/ppt/media/image7.png" ContentType="image/png"/>
  <Override PartName="/ppt/media/image41.wmf" ContentType="image/x-wmf"/>
  <Override PartName="/ppt/media/image13.png" ContentType="image/png"/>
  <Override PartName="/ppt/media/image53.wmf" ContentType="image/x-wmf"/>
  <Override PartName="/ppt/media/image9.wmf" ContentType="image/x-wmf"/>
  <Override PartName="/ppt/media/image39.wmf" ContentType="image/x-wmf"/>
  <Override PartName="/ppt/media/image31.wmf" ContentType="image/x-wmf"/>
  <Override PartName="/ppt/media/image32.wmf" ContentType="image/x-wmf"/>
  <Override PartName="/ppt/media/image34.png" ContentType="image/png"/>
  <Override PartName="/ppt/media/image42.png" ContentType="image/png"/>
  <Override PartName="/ppt/media/image43.wmf" ContentType="image/x-wmf"/>
  <Override PartName="/ppt/media/image4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2FE2-09F6-4650-98B9-5290A16FC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4E56-8C18-4F1F-9E12-FAD08CC8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D7C6-F30B-4294-91B0-C090DA053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CABF-BC37-451C-8CBC-34BE5580C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4A55-3ABB-40EA-8AF4-9623DF6B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1401-D612-41F3-BE3B-B8F0FAA6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E048-1EA9-46E7-B8A0-FD8E7493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65AF-86F0-467A-ABD1-59AB8133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299B-CF4E-415D-AC06-7564BD52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3D6C-AA81-45ED-9525-9B9B9A2F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D814-653C-448B-8D2B-656E9B60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BA37-6268-44AB-AA63-C44EF4CE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1C6D-486C-40CD-9B1F-1068A52B4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0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Symbol"/>
                <a:ea typeface="Symbol"/>
              </a:rPr>
              <a:t>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nd the US Neutrino Programme</a:t>
            </a:r>
            <a:br>
              <a:rPr sz="3600"/>
            </a:b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467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lie Camill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N,  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R Neutr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IPNO Orsay, 4 octobre 200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NO</a:t>
            </a:r>
            <a:r>
              <a:rPr b="0" lang="en-US" sz="4000" spc="-1" strike="noStrike">
                <a:solidFill>
                  <a:srgbClr val="ff0066"/>
                </a:solidFill>
                <a:latin typeface="Symbol"/>
                <a:ea typeface="Symbol"/>
              </a:rPr>
              <a:t></a:t>
            </a: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A Dete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45400" y="2362320"/>
            <a:ext cx="2298600" cy="3962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5867280" cy="3656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28600" y="609480"/>
            <a:ext cx="8686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lly active detector consisting of alternating plane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izontal and vertical 15.7m long plastic PVC tubes fill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liquid scintillator (BC 517L):  Total mass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25kt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tube viewed by a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loop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LS fibre  both ends of whi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read by a  single avalanche photodiode (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P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28600" y="5105160"/>
            <a:ext cx="838080" cy="60948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0400" y="5486400"/>
            <a:ext cx="4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237440" y="914400"/>
            <a:ext cx="101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760 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2590920"/>
            <a:ext cx="0" cy="3581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38880" y="6172200"/>
            <a:ext cx="9144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153280" y="2590920"/>
            <a:ext cx="0" cy="3581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200400"/>
            <a:ext cx="1278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iO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o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PVC tub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400800" y="2971440"/>
            <a:ext cx="762120" cy="7621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5943600"/>
            <a:ext cx="67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ubes are wide enough (6 cm) to allow large bending radius and no damage to fibre </a:t>
            </a:r>
            <a:r>
              <a:rPr b="0" lang="en-US" sz="20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he loop is a “perfect” mi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valanche Photodi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6720" y="1600200"/>
            <a:ext cx="31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Hamamatsu 32 APD arr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4114800"/>
            <a:ext cx="3460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Pixel size 1.8mm x 1.05m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(Fibre 0.8mm diame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Operating voltage 400 Vo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Gain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Operating temperature: -15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(reduces noi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0" y="1143000"/>
            <a:ext cx="0" cy="533520"/>
          </a:xfrm>
          <a:prstGeom prst="line">
            <a:avLst/>
          </a:prstGeom>
          <a:ln w="38160">
            <a:solidFill>
              <a:srgbClr val="3333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00080" y="68580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Pho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5638680"/>
            <a:ext cx="349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Asic for APD’s: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5 pe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3520" y="2050920"/>
            <a:ext cx="4343400" cy="23655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flipH="1">
            <a:off x="2361960" y="1981080"/>
            <a:ext cx="7596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2057040" y="3581280"/>
            <a:ext cx="22860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181480" y="1676520"/>
            <a:ext cx="3502080" cy="4056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3886200" y="3733920"/>
            <a:ext cx="1828800" cy="18288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y APD’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99072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The quantum efficiency of APD’s is much higher than a pm’s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en-US" sz="2000" spc="-1" strike="noStrike">
                <a:solidFill>
                  <a:srgbClr val="ff66ff"/>
                </a:solidFill>
                <a:latin typeface="Times New Roman"/>
              </a:rPr>
              <a:t>~80%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 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Especially at the higher wave length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surviving after traversing the fib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6172200" cy="3468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flipH="1">
            <a:off x="4876560" y="1371600"/>
            <a:ext cx="1981080" cy="20574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ibre/Scintillator cosmic ray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280" y="2666880"/>
            <a:ext cx="4665960" cy="3044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3448080" cy="3538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50280" y="1386000"/>
            <a:ext cx="5010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Inserted looped 15.7m long fibre in 60 cm l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PVC tube filled with liquid scintill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Exposed to cosmic r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320" y="4952880"/>
            <a:ext cx="255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easured 20 p.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a mip signal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far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2819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400800" y="2209320"/>
            <a:ext cx="0" cy="2057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99080" y="6172200"/>
            <a:ext cx="444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Asic for APD’s: 2.5 pe noise  </a:t>
            </a:r>
            <a:r>
              <a:rPr b="1" lang="en-US" sz="20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S/N ~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67920" y="4510080"/>
            <a:ext cx="26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0    20    40    60    80 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alf Block Prototype Being Built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t Argon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814400" y="1843200"/>
            <a:ext cx="55152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1905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Lo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5168880"/>
            <a:ext cx="9144000" cy="1332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105520" y="0"/>
            <a:ext cx="4267080" cy="40575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24640" y="1932120"/>
            <a:ext cx="371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Surface detector with ab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3m overbur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to reduce the em compon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of cosmic r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429000" y="1523880"/>
            <a:ext cx="2133720" cy="990720"/>
          </a:xfrm>
          <a:prstGeom prst="line">
            <a:avLst/>
          </a:prstGeom>
          <a:ln w="381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943240" y="53316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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iscri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6025" t="9029" r="6837" b="3765"/>
          <a:stretch/>
        </p:blipFill>
        <p:spPr>
          <a:xfrm>
            <a:off x="0" y="463680"/>
            <a:ext cx="5486400" cy="3987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9285" t="8333" r="15001" b="1191"/>
          <a:stretch/>
        </p:blipFill>
        <p:spPr>
          <a:xfrm>
            <a:off x="4114800" y="3166920"/>
            <a:ext cx="5029200" cy="3605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136520" y="949320"/>
            <a:ext cx="93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87360" y="3657600"/>
            <a:ext cx="95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1040" y="4572000"/>
            <a:ext cx="376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Electrons shower: many hits/pla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Muons do not: just one hit/pla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990720" y="4038120"/>
            <a:ext cx="609480" cy="8384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33920" y="5486400"/>
            <a:ext cx="1295280" cy="4572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5867280"/>
            <a:ext cx="33530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C background rejec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7.1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-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eutral Current background: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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6412" t="9029" r="6154" b="3765"/>
          <a:stretch/>
        </p:blipFill>
        <p:spPr>
          <a:xfrm>
            <a:off x="1219320" y="1066680"/>
            <a:ext cx="6476760" cy="46926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85800" y="5943600"/>
            <a:ext cx="7391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ok like electrons and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C, if two photons are not recogniz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C background  rejection: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3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MINOS/NO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Neutrino beam: NUM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382240" cy="2287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85800" y="2514600"/>
            <a:ext cx="1406520" cy="2698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2438280" y="2978280"/>
            <a:ext cx="6705720" cy="36781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47600" y="5410080"/>
            <a:ext cx="238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 horn and 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hange energy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209680" y="4952880"/>
            <a:ext cx="53352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523880" y="1905120"/>
            <a:ext cx="38124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FF-AXIS 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685440"/>
            <a:ext cx="8915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4495680" cy="2286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28600" y="4267080"/>
            <a:ext cx="434340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utrino Energy Spectrum is narrow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expect </a:t>
            </a:r>
            <a:r>
              <a:rPr b="1" lang="en-US" sz="2000" spc="-1" strike="noStrike">
                <a:solidFill>
                  <a:srgbClr val="00cc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cc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hoose the off-axis angle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the mean energy of the bea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ptimiz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oscillation probabil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648320" y="609480"/>
            <a:ext cx="4582440" cy="1245960"/>
            <a:chOff x="4648320" y="609480"/>
            <a:chExt cx="4582440" cy="1245960"/>
          </a:xfrm>
        </p:grpSpPr>
        <p:sp>
          <p:nvSpPr>
            <p:cNvPr id="184" name=""/>
            <p:cNvSpPr/>
            <p:nvPr/>
          </p:nvSpPr>
          <p:spPr>
            <a:xfrm>
              <a:off x="5555520" y="1632600"/>
              <a:ext cx="565920" cy="2228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4120" y="1688400"/>
              <a:ext cx="188280" cy="111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28000" y="1688400"/>
              <a:ext cx="189000" cy="111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48320" y="1743840"/>
              <a:ext cx="419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84560" y="1717200"/>
              <a:ext cx="75600" cy="554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426520" y="968400"/>
              <a:ext cx="263880" cy="4989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5819400" y="1244880"/>
              <a:ext cx="2720520" cy="443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50880" y="1499400"/>
              <a:ext cx="13680" cy="24624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0" y="0"/>
                  </a:moveTo>
                  <a:cubicBezTo>
                    <a:pt x="6" y="38"/>
                    <a:pt x="13" y="76"/>
                    <a:pt x="15" y="111"/>
                  </a:cubicBezTo>
                  <a:cubicBezTo>
                    <a:pt x="17" y="146"/>
                    <a:pt x="13" y="179"/>
                    <a:pt x="10" y="21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421760" y="135792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0640" y="1440720"/>
              <a:ext cx="58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Targ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21000" y="1452600"/>
              <a:ext cx="55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Hor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57680" y="1361160"/>
              <a:ext cx="877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Decay Pi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3800" y="60948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MS PGothic"/>
                </a:rPr>
                <a:t>Det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64160" y="1743840"/>
              <a:ext cx="290520" cy="18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419720" y="1981080"/>
            <a:ext cx="4717800" cy="4724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52280" y="106668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decay pions give simil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utrino energies at the detect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6324480"/>
            <a:ext cx="7617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8120" y="1371600"/>
            <a:ext cx="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4495680"/>
            <a:ext cx="1828800" cy="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lan of T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do we stand and what do we still need to meas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t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s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I b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s present and future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s current user: MINOS. Present and expected perform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nsi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tatus and sched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S progra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l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Neutrino Beam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04880" y="3657600"/>
            <a:ext cx="1789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= 0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73880" y="4800600"/>
            <a:ext cx="2257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Beam </a:t>
            </a: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~ 0.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ajor back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5343480" cy="4883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 flipH="1">
            <a:off x="3124080" y="3962520"/>
            <a:ext cx="28195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800240" y="4648320"/>
            <a:ext cx="1676520" cy="38088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71760" y="1981080"/>
            <a:ext cx="990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Symbol"/>
                <a:ea typeface="Symbol"/>
              </a:rPr>
              <a:t></a:t>
            </a:r>
            <a:r>
              <a:rPr b="1" lang="en-US" sz="2000" spc="-1" strike="noStrike">
                <a:solidFill>
                  <a:srgbClr val="339933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13560" y="5791320"/>
            <a:ext cx="31813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ll have a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NEA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det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measure thi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INOS det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828800" y="1522440"/>
            <a:ext cx="6524640" cy="45356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64400" y="6172200"/>
            <a:ext cx="8072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Study of atmospheric mass region  through </a:t>
            </a:r>
            <a:r>
              <a:rPr b="1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disappea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ar detector result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4640" y="5181480"/>
            <a:ext cx="253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Suppression of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at low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10280" y="2895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5638680" cy="38638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 flipH="1" flipV="1">
            <a:off x="1294920" y="3657240"/>
            <a:ext cx="304920" cy="16002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11520" y="838080"/>
            <a:ext cx="242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ed unoscil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447560" y="121932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886200" y="5181480"/>
            <a:ext cx="4952880" cy="11876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6400800" y="914400"/>
            <a:ext cx="2558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ew MINOS measu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22800" y="5029200"/>
            <a:ext cx="20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Experiment en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6781680" cy="47512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575360" y="5881680"/>
            <a:ext cx="450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Compatible with and comparable to 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More precise than K2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61600" y="3290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K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286000"/>
            <a:ext cx="1143000" cy="76212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MINOS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855720" y="1981080"/>
            <a:ext cx="7432560" cy="41148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660640" y="4724280"/>
            <a:ext cx="317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INOS base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3.4 x 10</a:t>
            </a:r>
            <a:r>
              <a:rPr b="1" lang="en-US" sz="2800" spc="-1" strike="noStrike" baseline="30000">
                <a:solidFill>
                  <a:srgbClr val="00cc00"/>
                </a:solidFill>
                <a:latin typeface="Times New Roman"/>
              </a:rPr>
              <a:t>20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pots /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1160" y="5851440"/>
            <a:ext cx="294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Improvement by about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factor of 3 in 3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4419360" y="3581280"/>
            <a:ext cx="609480" cy="236232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Proton Beam as of to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676520" y="838080"/>
            <a:ext cx="6629400" cy="40006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 flipH="1">
            <a:off x="6934320" y="3124080"/>
            <a:ext cx="9144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19051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2.8 x 10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p’s per spill               (2.2 se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2590920"/>
            <a:ext cx="1447920" cy="259056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5029200"/>
            <a:ext cx="64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For a Fermilab year of   2 x 10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se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   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2.4 x 10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0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pots/ye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      </a:t>
            </a: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(Achieved 1.27 x10</a:t>
            </a:r>
            <a:r>
              <a:rPr b="1" lang="en-US" sz="1600" spc="-1" strike="noStrike" baseline="30000">
                <a:solidFill>
                  <a:srgbClr val="3333ff"/>
                </a:solidFill>
                <a:latin typeface="Times New Roman"/>
              </a:rPr>
              <a:t>20</a:t>
            </a:r>
            <a:r>
              <a:rPr b="0" lang="en-US" sz="1600" spc="-1" strike="noStrike" baseline="30000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in first turn-on ye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INOS baseline 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.4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pots/year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847640" y="28954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~280 k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43200" y="205740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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eam after the collider shuts down (200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3120" y="1233360"/>
            <a:ext cx="843804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No antiproton production batches in Main Inj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No downtime for preparing collider shot.  No time for antiproton transf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from accumulator  to recycl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ransfer time of 12 booster batches to Main Injector (0.8 sec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Instead transfer them to recycler during Main Injector cycle, and then transf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in one 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New RF in main inj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Upgrade of NUMI targ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his should bring the Main Injector to a 1MW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st: 30-50 M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PROTONS: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.5 x 10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</a:rPr>
              <a:t>20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protons on target per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A gain of a factor of  &gt;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in numbers of protons delive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eam assum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0: Full shutdown to convert MI to 1 MW mach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1: 44 weeks running at 400 to 700 kW (Partial (5kT)detecto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2: 38 weeks running at 700kW to 1 M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3 and beyond: 44 weeks at 1 M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30360" y="2743200"/>
            <a:ext cx="3704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Degradation factors assum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lerator uptime: 85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to peak intensity: 90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uptime: 90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4632480"/>
            <a:ext cx="5943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Running ti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running as soon as 5kT install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years to build up to full det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n for 6 years from end of constru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                   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Total: 60.3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p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ignal and background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% electron shower energy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5% muon energy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 likelihood applied to events to separate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s from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backgrou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ields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3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fficiency f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gnal events including fiducial in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ground suppress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7.1E-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3E-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eutral 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ized Figure of Mer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Signal / sqrt(#bkd) =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4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gnal events for 60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t for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sin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2</a:t>
            </a: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=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9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ground events. (12 intrinsic beam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7 neutral curr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ignal and Background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istical Power: why this is hard and we need prot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594320" y="2338560"/>
            <a:ext cx="3951360" cy="24955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608040" y="2327400"/>
            <a:ext cx="3987720" cy="25174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1836720" y="2825640"/>
            <a:ext cx="279360" cy="2541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5460840" y="2730600"/>
            <a:ext cx="279720" cy="3556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071720" y="5035680"/>
            <a:ext cx="37314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i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.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S=142.1,  B=19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S=  71.8,  B=1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27960" y="5051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54160" y="585000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39040" y="4438800"/>
            <a:ext cx="4221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5             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24160" y="4430880"/>
            <a:ext cx="4221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5             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-family oscillation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915400" cy="1260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2160" y="1081080"/>
            <a:ext cx="21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= sine  c = cos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040" y="3581280"/>
            <a:ext cx="8778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CP violation ph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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drives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OLAR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oscillations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314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0.056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-0.04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+- 16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drives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TMOSPHERIC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oscillation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23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44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0.18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-0.10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+44%   -22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cc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cc00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he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ISSING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link !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0.03</a:t>
            </a:r>
            <a:r>
              <a:rPr b="0" lang="en-US" sz="2800" spc="-1" strike="noStrike" baseline="30000">
                <a:solidFill>
                  <a:srgbClr val="3333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Set by a reactor experiment: CHOO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 </a:t>
            </a: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sensitivity to </a:t>
            </a: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Times New Roman"/>
              </a:rPr>
              <a:t>13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4038480" cy="39924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 flipH="1">
            <a:off x="6095880" y="380880"/>
            <a:ext cx="15264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5715000"/>
            <a:ext cx="8763120" cy="9907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rrelations are much reduced by running BOTH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Discovery limit 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better than 0.0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for ALL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’s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and BOTH mass hierarch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78560" y="3124080"/>
            <a:ext cx="1582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cc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60.3 x 10</a:t>
            </a:r>
            <a:r>
              <a:rPr b="1" lang="en-US" sz="1800" spc="-1" strike="noStrike" baseline="30000">
                <a:solidFill>
                  <a:srgbClr val="00cc00"/>
                </a:solidFill>
                <a:latin typeface="Times New Roman"/>
              </a:rPr>
              <a:t>20 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p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47880" y="2819520"/>
            <a:ext cx="1665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30.2 x 10 </a:t>
            </a:r>
            <a:r>
              <a:rPr b="1" lang="en-US" sz="1800" spc="-1" strike="noStrike" baseline="30000">
                <a:solidFill>
                  <a:srgbClr val="00cc00"/>
                </a:solidFill>
                <a:latin typeface="Times New Roman"/>
              </a:rPr>
              <a:t>20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 p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e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cc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1" lang="en-US" sz="1800" spc="-1" strike="noStrike">
                <a:solidFill>
                  <a:srgbClr val="00cc00"/>
                </a:solidFill>
                <a:latin typeface="Symbol"/>
                <a:ea typeface="Symbol"/>
              </a:rPr>
              <a:t>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(removes s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correl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29600" y="3429000"/>
            <a:ext cx="15228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629400" y="5867280"/>
            <a:ext cx="1522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omparison to T2K and a Reactor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3838320" cy="3809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4648320" y="1371600"/>
            <a:ext cx="3825720" cy="38098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277440" y="25909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T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281952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Re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7848720" y="1752120"/>
            <a:ext cx="0" cy="2971800"/>
          </a:xfrm>
          <a:prstGeom prst="line">
            <a:avLst/>
          </a:prstGeom>
          <a:ln w="3816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11040" y="5181480"/>
            <a:ext cx="32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aidwood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Double Choo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6934320" y="495252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7848720" y="480060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8120" y="4952880"/>
            <a:ext cx="25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T2K may not be la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048120" y="2971800"/>
            <a:ext cx="304560" cy="38088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87120" y="5791320"/>
            <a:ext cx="213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Not very diffe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3440" y="5715000"/>
            <a:ext cx="385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Comparable to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Very sensitive reactor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95% CL Resolution of the θ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Times New Roman"/>
              </a:rPr>
              <a:t>23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mbigu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 rot="5400000">
            <a:off x="1939680" y="1869840"/>
            <a:ext cx="4425840" cy="44956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04920" y="914400"/>
            <a:ext cx="86104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Combining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accelerator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experiments (sensitive to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sin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θ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23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)sin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(2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θ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))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with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reactor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experiments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sensitive to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sin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(2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θ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))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95% CL Resolution of the Mass Ord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 rot="5400000">
            <a:off x="3665160" y="1744560"/>
            <a:ext cx="4937400" cy="49528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-10080" y="1752480"/>
            <a:ext cx="42465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ortant to establish hierarch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Per 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If inverted next gener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double beta decay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can determine if the neutrino is 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own antiparti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o measure CP vio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need to remove hierarchy uncertain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because it contributes 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apparent CP viol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6360" y="5715000"/>
            <a:ext cx="3338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Will depend on value of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 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ombining NOνA and T2K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 rot="5400000">
            <a:off x="2080800" y="1347480"/>
            <a:ext cx="4295880" cy="43434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705720" y="266688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Δ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.0030 eV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39760" y="5799240"/>
            <a:ext cx="4550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Some improvement at high values of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δ vs. sin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2θ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Times New Roman"/>
              </a:rPr>
              <a:t>13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) Contours for Test points: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ormal  Mass orderi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3891240" cy="38102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52280" y="32004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rmal Mass Ordering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93200" y="5943600"/>
            <a:ext cx="344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Some limited sensitivity at 1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ost and sched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62120" y="685440"/>
            <a:ext cx="80769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tal cost (Far and near detectors, building, admin etc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26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M$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(including 57 M$ contingenc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roved by Fermilab Program Advisory Committee: Stage 1 Approval, (April 200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oritized by NuSA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ommended by P5 for construction start in Fiscal Year 2008 (October 2007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itical Decision Zero (CD0) granted. Mission ne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tained CD1 approval:  Range of Schedules and cos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D2 next end 2006(?): Final cost, schedule and TD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nted $10M in R&amp;D for generic oscillation experi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ton Driver CD0 shelved at this stage. But R&amp;D can continu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ternative plans for Main Injector upgrade to 1 MW, maybe 1.2 M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                                      </a:t>
            </a: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Sche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umption:  Approval early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200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ing ready: June 2009. (Agreement with U. of Minnesota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ve kilotons: Early 201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letion: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201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he US programme: Accelerators 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I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iniBooNE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the Fermilab boost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SND observation this ye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energy data already presen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SciBo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K2K SciBar dete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MiniBooNE beam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energy cross s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INERV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 s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low energy in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ar hall of NUMI be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ing through appro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105520" y="914400"/>
            <a:ext cx="3733560" cy="30322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4181400" y="5029200"/>
            <a:ext cx="4962600" cy="15638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 flipV="1">
            <a:off x="4038480" y="2057400"/>
            <a:ext cx="990720" cy="9144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352680" y="5486400"/>
            <a:ext cx="6858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US programme: Accelerators I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2K 280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Participation in 280m near detector sup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tector inside the UA1/NOMAD magnet for the near detector          and work on be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2K 2K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icipation in Water Cerenkov, civil engineering and liquid argon (150 ton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at  later stage if pos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quid argon R&amp;D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determine whether scalable to tens of kilot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US programme: Double –</a:t>
            </a: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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ec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 rot="5400000">
            <a:off x="2813400" y="-908640"/>
            <a:ext cx="3364200" cy="86868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4719960" y="5410080"/>
            <a:ext cx="334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SAG recommenda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ommended the first th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3560" y="5181480"/>
            <a:ext cx="3274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EX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Potential for reduc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back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 extracting and identify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ing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Bariu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 a second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533160" y="3048120"/>
            <a:ext cx="75960" cy="22096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3276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ass hierarchy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ign of 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32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Times New Roman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35280" y="1676520"/>
            <a:ext cx="76212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73160" y="1676520"/>
            <a:ext cx="762120" cy="2286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0880" y="1676520"/>
            <a:ext cx="15228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0200" y="4648320"/>
            <a:ext cx="45720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83000" y="4648320"/>
            <a:ext cx="457200" cy="2286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0880" y="4648320"/>
            <a:ext cx="76212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0200" y="4267080"/>
            <a:ext cx="45720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4267080"/>
            <a:ext cx="457200" cy="2286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0880" y="4267080"/>
            <a:ext cx="76212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16560" y="4648320"/>
            <a:ext cx="76212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54800" y="4648320"/>
            <a:ext cx="761760" cy="2286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02160" y="4648320"/>
            <a:ext cx="15264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1480" y="1676520"/>
            <a:ext cx="45720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64280" y="1676520"/>
            <a:ext cx="457200" cy="2286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02160" y="1676520"/>
            <a:ext cx="76212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21480" y="2057400"/>
            <a:ext cx="45720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64280" y="2057400"/>
            <a:ext cx="457200" cy="2286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02160" y="2057400"/>
            <a:ext cx="76212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87360" y="4114800"/>
            <a:ext cx="60984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69080" y="1523880"/>
            <a:ext cx="466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78680" y="1523880"/>
            <a:ext cx="533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55000" y="449568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058760" y="2057040"/>
            <a:ext cx="0" cy="609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1058760" y="3581280"/>
            <a:ext cx="7920" cy="685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257600" y="2971800"/>
            <a:ext cx="15552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23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7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-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eV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8221680" y="2361960"/>
            <a:ext cx="0" cy="685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2320" y="2666880"/>
            <a:ext cx="15552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23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7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-3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eV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4648320"/>
            <a:ext cx="0" cy="2286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219320" y="4419360"/>
            <a:ext cx="0" cy="2286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777800" y="1295280"/>
            <a:ext cx="12002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12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7.9 x 10 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eV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12200" y="1981080"/>
            <a:ext cx="0" cy="2286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7612200" y="1828440"/>
            <a:ext cx="0" cy="2286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87760" y="16765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649680" y="16765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65320" y="176688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05 e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25000" y="1066680"/>
            <a:ext cx="62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  Hierarchy                               Inverted  Hierarc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5302080"/>
            <a:ext cx="7772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cillations only tell us about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DIFFERENC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m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the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ABSOL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ass scale: Direct measurements or Doubl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per limit: Tritium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ay: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ass (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) &lt;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2 e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er limit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7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-3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1/2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&gt;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0.05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00" y="4191120"/>
            <a:ext cx="12002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12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7.9 x 10 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eV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229600" y="3962520"/>
            <a:ext cx="0" cy="685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380880"/>
            <a:ext cx="30492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380880"/>
            <a:ext cx="304920" cy="2286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380880"/>
            <a:ext cx="30492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30492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3600" y="30492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20240" y="30492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US programme: Rea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SAG recommended a US experiment to get down to a sensitivity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~0.01.  Both Daya Bay and Braidwood had this potent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OE has stopped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raidwo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encouraged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aya B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SAG encouraged participation in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ouble Choo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ut with lower scientific priority because of its lower rea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OE does not go along with this but possibly the NSF wi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Very Long baseline: New NuSAG cha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 a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M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cceler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 baselines: Compare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800k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NO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1300-2800k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aselines: Fermilab or Brookhaven to new  Underground site at Henderson or Homestak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s of detectors: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Liquid Arg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Water Cerenko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Bro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and: covering several oscillation maxima at once or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nar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sitivity and physics program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int BNL/FNAL study currently being carried out on these issu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ort: Oct.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4000" spc="-1" strike="noStrike">
                <a:solidFill>
                  <a:srgbClr val="339933"/>
                </a:solidFill>
                <a:latin typeface="Times New Roman"/>
              </a:rPr>
              <a:t>Extra Sli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ost break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685800" y="1981080"/>
          <a:ext cx="7772400" cy="4348440"/>
        </p:xfrm>
        <a:graphic>
          <a:graphicData uri="http://schemas.openxmlformats.org/drawingml/2006/table">
            <a:tbl>
              <a:tblPr/>
              <a:tblGrid>
                <a:gridCol w="4078440"/>
                <a:gridCol w="1769760"/>
                <a:gridCol w="1924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g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Cost M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r Dete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e dete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ctronics and DA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ipp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alla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ar Dete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ilding and outfit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ject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Additional conting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4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6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Far det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8229240" cy="457200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VC modul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assemb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8.782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quid Scintilla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handl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30.309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ve-length shifting fib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7.430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ctronics, Trigger,DA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3.412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Near Detector in MINOS Surface Buil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57080" y="5562720"/>
            <a:ext cx="2366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,000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C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485400" y="5562720"/>
            <a:ext cx="218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,200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C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32120" y="1600200"/>
            <a:ext cx="43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5 x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ot in 75 mrad off-axis b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83080" y="205740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Kaon pe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3809880" y="2514600"/>
            <a:ext cx="609840" cy="3808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8001000" cy="32400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flipH="1">
            <a:off x="3352320" y="2438280"/>
            <a:ext cx="685800" cy="38124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onfirmed by KAMLAND: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Reactor antineutrinos to detector at Kamio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5562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5589720" cy="42102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 flipV="1">
            <a:off x="1828800" y="4267080"/>
            <a:ext cx="1295280" cy="7632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7640" y="3824280"/>
            <a:ext cx="146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S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74320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KAM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410080" y="3276720"/>
            <a:ext cx="1905120" cy="53316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63640" y="6040440"/>
            <a:ext cx="553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KamLAND + Solar   Completely cons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ew MINOS measu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391160" cy="47703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412080" y="4815000"/>
            <a:ext cx="20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Experiment en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289548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Why are neutrino masses so low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rcRect l="0" t="3178" r="0" b="0"/>
          <a:stretch/>
        </p:blipFill>
        <p:spPr>
          <a:xfrm>
            <a:off x="4267080" y="228600"/>
            <a:ext cx="4006800" cy="64008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3048120" y="3657600"/>
            <a:ext cx="1752480" cy="12193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137160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Other p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52680" y="1676520"/>
            <a:ext cx="144792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9000" y="4572000"/>
            <a:ext cx="262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ascinating !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5562720"/>
            <a:ext cx="407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er limit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4 x 10-3)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&gt; 0.05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PD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d with light equivalent to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p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05480" y="34290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6600" y="4876920"/>
            <a:ext cx="242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Signal well separa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from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191120" y="5943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56560" y="5981760"/>
            <a:ext cx="44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0           20          40          60         80      pe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5429160" cy="34290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2666880" y="3657600"/>
            <a:ext cx="14479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5562720" y="2133720"/>
            <a:ext cx="380880" cy="190476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6781320" y="2209680"/>
            <a:ext cx="381240" cy="22860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at’s needed n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mass hierarch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CP violation in the neutrino sect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Summary of backgr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685800" y="1143000"/>
          <a:ext cx="7772400" cy="41907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rou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Err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r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am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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0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1" name=""/>
          <p:cNvSpPr/>
          <p:nvPr/>
        </p:nvSpPr>
        <p:spPr>
          <a:xfrm>
            <a:off x="2361600" y="5791320"/>
            <a:ext cx="3155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Efficiency for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e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signal: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8-fold degenera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 - 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ambiguity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Mass hierarchy two-fold degene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23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 degeneracy: For a value of sin2 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 2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23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, say 0.92, 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23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can be 33.5</a:t>
            </a:r>
            <a:r>
              <a:rPr b="0" lang="en-US" sz="2000" spc="-1" strike="noStrike" baseline="30000">
                <a:solidFill>
                  <a:srgbClr val="339933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or 56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2895480" cy="28530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5791320" y="1523880"/>
            <a:ext cx="3205080" cy="358164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276720" y="2438280"/>
            <a:ext cx="2819160" cy="23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A measure of P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can yield a whole range of values of </a:t>
            </a: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Measuring with  </a:t>
            </a: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’s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as well reduces the corre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467480" y="2819520"/>
            <a:ext cx="0" cy="19047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629400" y="4114800"/>
            <a:ext cx="129528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105520" y="3429000"/>
            <a:ext cx="152280" cy="0"/>
          </a:xfrm>
          <a:prstGeom prst="line">
            <a:avLst/>
          </a:prstGeom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04920" y="5791320"/>
            <a:ext cx="794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will most probably run first 3 years with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then 3 more with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will also improve the complementarity with T2K if they ru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96080" y="58672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road a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947960" y="1981080"/>
            <a:ext cx="5246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article Physics Projects Prioritization Panel (P5)  June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8686800" cy="104472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8915400" cy="27525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1750680" y="2895480"/>
            <a:ext cx="41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October 2007 -&gt; October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533520" y="2285640"/>
            <a:ext cx="1295280" cy="6858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itial Tests Using 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xtrusions from Existing Die (Small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5638680" y="990720"/>
            <a:ext cx="2819520" cy="2803320"/>
            <a:chOff x="5638680" y="990720"/>
            <a:chExt cx="2819520" cy="2803320"/>
          </a:xfrm>
        </p:grpSpPr>
        <p:pic>
          <p:nvPicPr>
            <p:cNvPr id="381" name="" descr=""/>
            <p:cNvPicPr/>
            <p:nvPr/>
          </p:nvPicPr>
          <p:blipFill>
            <a:blip r:embed="rId1"/>
            <a:stretch/>
          </p:blipFill>
          <p:spPr>
            <a:xfrm>
              <a:off x="5638680" y="990720"/>
              <a:ext cx="2819520" cy="28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7389720" y="2730960"/>
              <a:ext cx="66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Verdana"/>
                </a:rPr>
                <a:t>48 f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011280" y="2032200"/>
              <a:ext cx="2372400" cy="1594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4" name="" descr=""/>
          <p:cNvPicPr/>
          <p:nvPr/>
        </p:nvPicPr>
        <p:blipFill>
          <a:blip r:embed="rId2"/>
          <a:srcRect l="0" t="8136" r="8309" b="0"/>
          <a:stretch/>
        </p:blipFill>
        <p:spPr>
          <a:xfrm>
            <a:off x="152280" y="3886200"/>
            <a:ext cx="5257800" cy="28209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2057400" y="4343400"/>
            <a:ext cx="241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asured light yiel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93840" y="4038840"/>
            <a:ext cx="32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 = 80 exp(-L/4.6)+10 exp(-L/500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55520" y="1417680"/>
            <a:ext cx="4043520" cy="1568520"/>
            <a:chOff x="155520" y="1417680"/>
            <a:chExt cx="4043520" cy="1568520"/>
          </a:xfrm>
        </p:grpSpPr>
        <p:pic>
          <p:nvPicPr>
            <p:cNvPr id="388" name="" descr=""/>
            <p:cNvPicPr/>
            <p:nvPr/>
          </p:nvPicPr>
          <p:blipFill>
            <a:blip r:embed="rId3"/>
            <a:stretch/>
          </p:blipFill>
          <p:spPr>
            <a:xfrm>
              <a:off x="155520" y="1417680"/>
              <a:ext cx="4043520" cy="15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1856520" y="220680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4.2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c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618640" y="20779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2.2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c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28720" y="2519280"/>
              <a:ext cx="835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62480" y="1998720"/>
              <a:ext cx="0" cy="56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5406480" y="4713120"/>
            <a:ext cx="33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ometry gives factor of 1.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70440" y="498780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3 pe goes to 23 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22320" y="5602320"/>
            <a:ext cx="33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flectivity gives factor of 1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815080" y="588816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3 pe goes to 27 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43440" y="2895480"/>
            <a:ext cx="201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3.87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cm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6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Final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2057040" y="2590920"/>
            <a:ext cx="1066680" cy="3808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 flipV="1">
            <a:off x="2971800" y="2438280"/>
            <a:ext cx="1447920" cy="6098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191120" y="3581280"/>
            <a:ext cx="419076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48560" y="6186600"/>
            <a:ext cx="19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itanium diox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76160" y="476568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 p.e. at 15.7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19720" y="5181480"/>
            <a:ext cx="38088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ar Detector Assemb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361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or has 64 (31-plane)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fill with scintillator and run during 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Size planes built &amp; tested at Argo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4267080" cy="29415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1523880" y="4267080"/>
            <a:ext cx="6742080" cy="19447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371600" y="1752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400800" y="342900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15360" y="354168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31-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241400" y="16765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-cm expan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ion g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772400" y="3276720"/>
            <a:ext cx="114300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774200" y="342900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31-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7543440" y="2362320"/>
            <a:ext cx="304920" cy="3808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Near Detector to understand the b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846840" cy="46926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6477120" y="6858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62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45 T totally a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.4 T fidu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entral 2.5 x 3.25 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914400"/>
            <a:ext cx="15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-plane 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6 T f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6 T emp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30840" y="39625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Muon cat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1 m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801680" y="518148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Target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176000" y="55990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Veto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049920" y="18288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9.6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221120" y="37339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5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754640" y="5562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3.5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1676520" y="1523880"/>
            <a:ext cx="3657600" cy="14479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057400" y="5181480"/>
            <a:ext cx="990720" cy="9144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3124080"/>
            <a:ext cx="457200" cy="1981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3276720" y="5791320"/>
            <a:ext cx="914400" cy="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 flipV="1">
            <a:off x="3886200" y="5257440"/>
            <a:ext cx="914400" cy="1522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4952520" y="4648320"/>
            <a:ext cx="304920" cy="3808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257800" y="4724280"/>
            <a:ext cx="31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Shower containment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6248520" y="3733920"/>
            <a:ext cx="304560" cy="3808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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ep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10280" cy="464184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1676160" y="1828800"/>
            <a:ext cx="11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Elec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(show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105160" y="1905120"/>
            <a:ext cx="11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Elec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(show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828440" y="426708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u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257440" y="43434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u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132280" y="914400"/>
            <a:ext cx="140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Low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0920" y="914400"/>
            <a:ext cx="14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High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" y="56386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666880" y="5638680"/>
            <a:ext cx="4876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C background rejection: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7.1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Near detector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458200" cy="14605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6613200" y="6238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Site 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990720"/>
            <a:ext cx="76320" cy="3808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1219320" y="2232000"/>
            <a:ext cx="5943600" cy="458784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 flipH="1">
            <a:off x="5105160" y="1523880"/>
            <a:ext cx="2514600" cy="289584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3809880" y="1447920"/>
            <a:ext cx="3276720" cy="3962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3276720" y="1219320"/>
            <a:ext cx="3047760" cy="4647960"/>
          </a:xfrm>
          <a:prstGeom prst="line">
            <a:avLst/>
          </a:prstGeom>
          <a:ln w="381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286000" y="1295280"/>
            <a:ext cx="457200" cy="441972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804400" y="32148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Times New Roman"/>
              </a:rPr>
              <a:t>F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24080" y="3581280"/>
            <a:ext cx="76320" cy="76212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1447920"/>
            <a:ext cx="38088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-129600" y="1558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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b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O</a:t>
            </a: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ν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Collaboration consists of 142 physicists and engineers from 28 institu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gonne, Athens, Caltech, College de France, Fermilab, Harvard, Indiana, ITEP, Michigan State, Minnesota-Twin Cities, Minnesota-Duluth, Northern Illinois, Ohio, Ohio State, Oxford, Rutherford, Rio de Janeiro, South Carolina, SMU, Stanford, Texas, Texas A&amp;M, Tufts, UCLA, Virginia, Washington, William and 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ve Italian universities with about 20 senior physicists are actively discussing joining 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ν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Its main physics goal will be the study of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ν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→ν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oscillations at the atmospheric oscillation </a:t>
            </a:r>
            <a:r>
              <a:rPr b="1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1" lang="en-US" sz="24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orrelations in Oscillation Prob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7640" y="838080"/>
            <a:ext cx="20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From M. Lindn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7315200" cy="896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7315200" cy="2768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2280" y="4800600"/>
            <a:ext cx="861084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ing P 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does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ield a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UNIQ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lue of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cause of correlations between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CP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the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mass hierarchy (sign of </a:t>
            </a:r>
            <a:r>
              <a:rPr b="0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31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CP violation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: Difference betwee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utrino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tineutrino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scil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Mass hierarchy accessible through Matter eff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09480" y="3276360"/>
            <a:ext cx="1143000" cy="243828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267080" y="4114440"/>
            <a:ext cx="2133720" cy="243828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Energy dependence of matter eff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vacuum and without CP viol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        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P(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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vac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= sin</a:t>
            </a:r>
            <a:r>
              <a:rPr b="0" lang="en-GB" sz="28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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23 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sin</a:t>
            </a:r>
            <a:r>
              <a:rPr b="0" lang="en-GB" sz="28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2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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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sin</a:t>
            </a:r>
            <a:r>
              <a:rPr b="0" lang="en-GB" sz="2800" spc="-1" strike="noStrike" baseline="30000">
                <a:solidFill>
                  <a:srgbClr val="3333ff"/>
                </a:solidFill>
                <a:latin typeface="Times New Roman"/>
              </a:rPr>
              <a:t>2 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 baseline="-25000">
                <a:solidFill>
                  <a:srgbClr val="3333ff"/>
                </a:solidFill>
                <a:latin typeface="Times New Roman"/>
              </a:rPr>
              <a:t>atm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= 1.27 </a:t>
            </a:r>
            <a:r>
              <a:rPr b="0" lang="en-GB" sz="20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0" lang="en-GB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GB" sz="2000" spc="-1" strike="noStrike" baseline="-25000">
                <a:solidFill>
                  <a:srgbClr val="3333ff"/>
                </a:solidFill>
                <a:latin typeface="Times New Roman"/>
              </a:rPr>
              <a:t>32 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(L/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be at maximum oscillation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at L = 800km    E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ust be 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1.64 GeV,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at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 L = 295km    E = 0.6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roducing </a:t>
            </a: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mat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effects, at the first oscillation maximum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             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P(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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mat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= [1 </a:t>
            </a:r>
            <a:r>
              <a:rPr b="0" lang="en-GB" sz="2800" spc="-1" strike="noStrike">
                <a:solidFill>
                  <a:srgbClr val="ff3300"/>
                </a:solidFill>
                <a:latin typeface="Times New Roman"/>
              </a:rPr>
              <a:t>+-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(2E/</a:t>
            </a:r>
            <a:r>
              <a:rPr b="0" lang="en-GB" sz="28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en-GB" sz="2800" spc="-1" strike="noStrike" baseline="-25000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)] P(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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v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en-GB" sz="2000" spc="-1" strike="noStrike" baseline="-25000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 = [12 GeV][</a:t>
            </a:r>
            <a:r>
              <a:rPr b="0" lang="en-GB" sz="20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0" lang="en-GB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GB" sz="2000" spc="-1" strike="noStrike" baseline="-25000">
                <a:solidFill>
                  <a:srgbClr val="3333ff"/>
                </a:solidFill>
                <a:latin typeface="Times New Roman"/>
              </a:rPr>
              <a:t>32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/(2.7x10</a:t>
            </a:r>
            <a:r>
              <a:rPr b="0" lang="en-GB" sz="2000" spc="-1" strike="noStrike" baseline="30000">
                <a:solidFill>
                  <a:srgbClr val="3333ff"/>
                </a:solidFill>
                <a:latin typeface="Times New Roman"/>
              </a:rPr>
              <a:t>-3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)][2.8 gm.cm</a:t>
            </a:r>
            <a:r>
              <a:rPr b="0" lang="en-GB" sz="2000" spc="-1" strike="noStrike" baseline="30000">
                <a:solidFill>
                  <a:srgbClr val="3333ff"/>
                </a:solidFill>
                <a:latin typeface="Times New Roman"/>
              </a:rPr>
              <a:t>-3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/</a:t>
            </a:r>
            <a:r>
              <a:rPr b="0" lang="en-GB" sz="2000" spc="-1" strike="noStrike">
                <a:solidFill>
                  <a:srgbClr val="3333ff"/>
                </a:solidFill>
                <a:latin typeface="Symbol"/>
                <a:ea typeface="Symbol"/>
              </a:rPr>
              <a:t>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]~ </a:t>
            </a: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12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Times New Roman"/>
              </a:rPr>
              <a:t>             </a:t>
            </a:r>
            <a:r>
              <a:rPr b="0" lang="en-GB" sz="2800" spc="-1" strike="noStrike">
                <a:solidFill>
                  <a:srgbClr val="ff3300"/>
                </a:solidFill>
                <a:latin typeface="Times New Roman"/>
              </a:rPr>
              <a:t>+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pends on the mass hierarch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tter effects </a:t>
            </a: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grow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with energy and therefore with </a:t>
            </a: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distan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times larger (</a:t>
            </a: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27%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 at NO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 (</a:t>
            </a:r>
            <a:r>
              <a:rPr b="1" lang="en-GB" sz="2400" spc="-1" strike="noStrike">
                <a:solidFill>
                  <a:srgbClr val="00cc00"/>
                </a:solidFill>
                <a:latin typeface="Times New Roman"/>
              </a:rPr>
              <a:t>1.64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GeV) than at T2K (</a:t>
            </a:r>
            <a:r>
              <a:rPr b="1" lang="en-GB" sz="2400" spc="-1" strike="noStrike">
                <a:solidFill>
                  <a:srgbClr val="00cc00"/>
                </a:solidFill>
                <a:latin typeface="Times New Roman"/>
              </a:rPr>
              <a:t>0.6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G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3886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NO</a:t>
            </a:r>
            <a:r>
              <a:rPr b="0" lang="en-US" sz="4000" spc="-1" strike="noStrike">
                <a:solidFill>
                  <a:srgbClr val="ff0066"/>
                </a:solidFill>
                <a:latin typeface="Symbol"/>
                <a:ea typeface="Symbol"/>
              </a:rPr>
              <a:t></a:t>
            </a: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A Dete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838080"/>
            <a:ext cx="8686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Given relatively high 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of NUMI beam, decided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ptimize NO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f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resolution of the mass hierarch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Go as high in energy as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o keep L/E constant at 2.7 x 10</a:t>
            </a:r>
            <a:r>
              <a:rPr b="0" lang="en-US" sz="2000" spc="-1" strike="noStrike" baseline="30000">
                <a:solidFill>
                  <a:srgbClr val="3333ff"/>
                </a:solidFill>
                <a:latin typeface="Times New Roman"/>
              </a:rPr>
              <a:t>-3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eV</a:t>
            </a:r>
            <a:r>
              <a:rPr b="0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Go as far as possible, but remain in 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At Ash River near Canadian border (L =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810km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)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New site. Above grou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Detector placed 14 mrad (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2 km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) Off-axis of the Fermilab NUMI beam  (MIN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6850080"/>
            <a:ext cx="1066680" cy="7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2133720"/>
            <a:ext cx="152280" cy="533160"/>
          </a:xfrm>
          <a:prstGeom prst="downArrow">
            <a:avLst>
              <a:gd name="adj1" fmla="val 50000"/>
              <a:gd name="adj2" fmla="val 875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312408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962520"/>
            <a:ext cx="152280" cy="533160"/>
          </a:xfrm>
          <a:prstGeom prst="downArrow">
            <a:avLst>
              <a:gd name="adj1" fmla="val 50000"/>
              <a:gd name="adj2" fmla="val 875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19720" y="1219320"/>
            <a:ext cx="447192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4:45:39Z</dcterms:created>
  <dc:creator>Camilleri Leslie Loris</dc:creator>
  <dc:description/>
  <dc:language>en-US</dc:language>
  <cp:lastModifiedBy>llc</cp:lastModifiedBy>
  <dcterms:modified xsi:type="dcterms:W3CDTF">2006-10-03T19:52:20Z</dcterms:modified>
  <cp:revision>188</cp:revision>
  <dc:subject/>
  <dc:title>Cosmic calibration</dc:title>
</cp:coreProperties>
</file>